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applause.wav" ContentType="audio/x-wav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83F-A848-4C82-9434-2944FE54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FF9E-28EB-40A6-8811-12B9545D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3F2E-1289-4E14-8403-7509150C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4D0-674D-4728-B858-C7760507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51D5-E839-4BD4-A7A2-B76FA9B2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2A57-5E8E-46FA-ACA3-E8DB43F2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5513-4ADE-40F8-BCD9-A68EC183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91C1-666C-4D74-A960-37D3ECD6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72B0-422A-4D55-B53E-E33E5676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4738-BE45-4E0C-95A6-70A60BD6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7621-BD3F-4DD0-B816-39C05DD4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96C-3E7A-4AD2-951F-60411EE8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F642-E207-499E-820D-93ABD7F1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B7FA-B825-46F4-8914-D9CDD70E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5697-3F12-42C4-8D82-D54F2388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AED5-E156-4556-9735-43396E3D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91FF-2A4F-48FF-85E0-95C660C3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0B7-4D0C-47DB-B609-B2CF8F75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9ACB-D4E8-4729-9944-2552BB40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734-B0E7-4B53-8A73-BE62826D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67FC-4775-423D-BD6A-9DBB39F5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8AC-71FF-4BCB-AC99-8E8CB171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194-1140-4BC8-A00A-3AAE57FB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205-34E5-495F-B57E-673A783C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0174-72C1-4961-BD2B-D6EA768D8905}" type="slidenum">
              <a:rPr b="0" lang="es-MX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A483-4F7E-4224-BC7F-ABD3A6562CFB}" type="slidenum">
              <a:rPr b="0" lang="es-MX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inemexicano.mty.itesm.mx/directores/fernando_fuentes.html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008000" y="1341360"/>
            <a:ext cx="8136000" cy="20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af528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os años dorados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af528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af528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el cine mexican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af528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1280" y="4572000"/>
            <a:ext cx="9072720" cy="2286000"/>
            <a:chOff x="71280" y="4572000"/>
            <a:chExt cx="9072720" cy="2286000"/>
          </a:xfrm>
        </p:grpSpPr>
        <p:sp>
          <p:nvSpPr>
            <p:cNvPr id="213" name=""/>
            <p:cNvSpPr/>
            <p:nvPr/>
          </p:nvSpPr>
          <p:spPr>
            <a:xfrm>
              <a:off x="324000" y="4643640"/>
              <a:ext cx="8640720" cy="21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214" name=""/>
            <p:cNvGraphicFramePr/>
            <p:nvPr/>
          </p:nvGraphicFramePr>
          <p:xfrm>
            <a:off x="71280" y="4572000"/>
            <a:ext cx="9072720" cy="228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280" y="4572000"/>
                      <a:ext cx="907272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5148360" y="5004000"/>
              <a:ext cx="112716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2700360" y="4932360"/>
              <a:ext cx="1873080" cy="15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5"/>
            <a:stretch/>
          </p:blipFill>
          <p:spPr>
            <a:xfrm>
              <a:off x="324000" y="5004000"/>
              <a:ext cx="1871640" cy="14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6"/>
            <a:stretch/>
          </p:blipFill>
          <p:spPr>
            <a:xfrm>
              <a:off x="6732720" y="5076720"/>
              <a:ext cx="2016000" cy="1341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  <p:sndAc>
      <p:stSnd>
        <p:snd r:embed="rId7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00ff"/>
                </a:solidFill>
                <a:latin typeface="Arial"/>
              </a:rPr>
              <a:t>La época de oro del cine mexican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4560" y="2053800"/>
            <a:ext cx="6480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Inicia en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1936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con el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streno de la película Allá en el Rancho Grande (de Fernando de Fuente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20360" y="1268280"/>
            <a:ext cx="22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1936-1957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32040" y="4365720"/>
            <a:ext cx="69148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65b2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ermina en 1957, con la muerte 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edro Inf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00ff"/>
                </a:solidFill>
                <a:latin typeface="Arial"/>
              </a:rPr>
              <a:t>Los grandes actores</a:t>
            </a: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8400" y="1769760"/>
            <a:ext cx="3598920" cy="27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Pedro Infan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María Félix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Mario Moreno "Cantinflas"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Pedro Armendári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ndrea Palm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Jorge Negret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1916280"/>
            <a:ext cx="36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Dolores del Rí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Sara Garcí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Fernando So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ndrés Soler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Joaquín Pardavé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rturo de Córdov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00ff"/>
                </a:solidFill>
                <a:latin typeface="Arial"/>
              </a:rPr>
              <a:t>Algunos de los grandes directores mexicano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Fernando de Fuen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milio Fernánd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ulio Brach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oberto Gavald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Ismael Rodríguez</a:t>
            </a:r>
            <a:r>
              <a:rPr b="0" lang="es-MX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00ff"/>
                </a:solidFill>
                <a:latin typeface="Arial"/>
              </a:rPr>
              <a:t>María Félix, la Doñ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u primer película, con Pedro Infante, la convirtió en una gran estrell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492360" y="3068640"/>
            <a:ext cx="2181240" cy="2981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2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395280" y="333360"/>
          <a:ext cx="8532720" cy="6021360"/>
        </p:xfrm>
        <a:graphic>
          <a:graphicData uri="http://schemas.openxmlformats.org/drawingml/2006/table">
            <a:tbl>
              <a:tblPr/>
              <a:tblGrid>
                <a:gridCol w="2741760"/>
                <a:gridCol w="5790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Una producción de:</a:t>
                      </a:r>
                      <a:r>
                        <a:rPr b="0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Clasa Films (originalmente Jesús Grovas)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Género:</a:t>
                      </a:r>
                      <a:r>
                        <a:rPr b="0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Melodrama rural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Duración:</a:t>
                      </a:r>
                      <a:r>
                        <a:rPr b="0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138 min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Dirección:</a:t>
                      </a:r>
                      <a:r>
                        <a:rPr b="0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 u="sng">
                          <a:solidFill>
                            <a:srgbClr val="65b2ff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Fernando de Fuentes</a:t>
                      </a:r>
                      <a:r>
                        <a:rPr b="0" lang="es-ES" sz="2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; codirector: Miguel M. Delgado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Guión</a:t>
                      </a:r>
                      <a:r>
                        <a:rPr b="1" lang="es-ES" sz="2400" spc="-1" strike="noStrike">
                          <a:solidFill>
                            <a:srgbClr val="9900ff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Rómulo Gallegos y Fernando de Fuentes, sobre la novela homónima de Rómulo Gallego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1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0" spc="-1" strike="noStrike">
                          <a:solidFill>
                            <a:srgbClr val="66ff66"/>
                          </a:solidFill>
                          <a:latin typeface="Arial"/>
                          <a:ea typeface="Times New Roman"/>
                        </a:rPr>
                        <a:t>DOÑA BÁRBARA</a:t>
                      </a:r>
                      <a:endParaRPr b="0" lang="en-US" sz="6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00ff"/>
                </a:solidFill>
                <a:latin typeface="Arial"/>
              </a:rPr>
              <a:t>Resumen de Doña Bárba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01480" y="2053800"/>
            <a:ext cx="633420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espués de estudiar leyes en Caracas, Santos Luzardo regresa a Altamira,  en la llanura venezolana dominada por doña Bárbara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68360" y="189000"/>
            <a:ext cx="7488360" cy="446400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6275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oña bárbara domina la región y a los campesinos, porque es una mujer de mano dura, astuta y además, practica la brujería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24000" y="4437000"/>
            <a:ext cx="8820000" cy="242100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94920" y="4724280"/>
            <a:ext cx="8002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oña Bárbara se enamora del joven e intenta conseguirlo a cualquier prec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1:53:07Z</dcterms:created>
  <dc:creator>rocio</dc:creator>
  <dc:description/>
  <dc:language>en-US</dc:language>
  <cp:lastModifiedBy>rocio</cp:lastModifiedBy>
  <dcterms:modified xsi:type="dcterms:W3CDTF">2006-04-03T18:46:04Z</dcterms:modified>
  <cp:revision>24</cp:revision>
  <dc:subject/>
  <dc:title>Diapositiva 1</dc:title>
</cp:coreProperties>
</file>